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E96-A52C-4665-BDF0-042D6A75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6F3-37D9-430F-80D3-09CCC7C5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3BF-4F99-48DE-BFA9-3A9838A2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53C-63E7-492E-A25A-52A119AD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4417-249F-42E0-A6E9-AE762AED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3695-CCD5-4868-8752-416F1CC3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31C8-2014-4BF2-84DA-EA0980EC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F82F-3F15-41F6-ACFB-0BA72E62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DF00-EB77-4D26-A5CD-9CC5CC85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0924-F1D2-4F84-A7D9-FD1EB61F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50C4-1C0A-49A4-8AF6-3F59CB96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477-43B0-49FE-BF7B-30C6FC12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AB6A-EE8D-4011-8582-BDCAA1E4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EFAF-D119-4587-8530-09996337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70E0-4649-491F-8607-96B70F1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DF96-E247-45B5-A849-38FB582E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C68A-F618-4BC6-BE4A-2BE4C360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4857-CC00-46E5-8ECC-1E30CC3E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D1CC-0DEC-4160-940A-E3F86054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D3A5-9195-47E5-A04C-182431E1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38ED-BFB6-45FA-8304-23C304CE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4C88-932C-4642-A13F-5FDF8D3B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F4F-F9BF-40D4-9F36-CC4F78C2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FF5B-FC52-42C2-B9BF-CFB44CE6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459A-637D-4363-97DA-2B21F757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59F5-F1FA-40A0-8EC4-E484953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8712-554F-444B-BF42-2387279B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16AB-3FB3-47B0-96B3-488E7EF9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0B3D-0344-401B-81BF-6D792EA0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9E04-9A6C-4546-A2A2-989C2DE8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2B4FC-5A84-40DD-B77F-7FE3C9B6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3FFC-F1CA-4D8F-9321-67AC7CF4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C463-D83B-4055-8AC1-2FCA9665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5C4-150D-4A11-9B10-63A48149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7CB6-3ED6-44BC-A7C7-6B588745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1DBA-571D-4872-9577-53C4F4D4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EDFE-770F-41CB-ACF7-353EAD1D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7CA4-CD38-4EFB-8649-10DB272C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9E26-AF24-45DC-95F9-75ECA9AC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CD8C-C53C-44CB-BDA8-B0706EA8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436E-0B87-45D0-9F69-1B8701B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034DA-D856-4A73-9329-F086726D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1589-F43E-40E5-90CA-AD8ADBE7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2FDA-656A-4A31-8CA0-8477DF0E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3A5-1243-4B18-B6AE-F2804856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41CD8-2AE3-4C96-986B-C87D8C19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39BA-58B8-46AB-9B95-FD4B2794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D0AC9-EEFC-4996-B95A-8B6712FA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5BD23-94E3-419A-B487-0F0A4123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B46CB-30CB-4D63-92FC-65E571DE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B68EB-017C-48E6-9C5D-806F3457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82D6C-D20F-4AE4-A95C-1F9D07D4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9589B-583D-4DF2-A400-587B187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FF96C-CC85-418F-89DA-6E97DBA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ABD51-A334-46F2-9342-0CC47950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316-9B6A-42C2-B555-64A41206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2CB82-E5EB-4586-83DE-2C71DBE8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ADA-C219-4285-AD19-26F8D4D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726-A92C-40A3-BBF5-0E4526FB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516-F02E-4567-BBDF-E22AEF58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0601-FFD3-43CF-8817-56BCEE0E2E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AE46-2837-45F4-B594-2A5815159C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EC02-4097-4F83-A349-E7DB190A3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4301-2E72-4007-9094-BC4993166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1BA4-CE68-42BC-9F34-6620D8914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16286" r="0" b="0"/>
          <a:stretch/>
        </p:blipFill>
        <p:spPr>
          <a:xfrm>
            <a:off x="3200400" y="2286000"/>
            <a:ext cx="4525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abBruD"/>
              </a:rPr>
              <a:t>What Christmas means to James Deran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abBruD"/>
              </a:rPr>
              <a:t>The story of what Christmas mean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25320" y="696960"/>
            <a:ext cx="789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ristmas to me means a gathering of family and a feast with friends and having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33412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t also means to me how Baby Jesus wa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al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0" t="7577" r="0" b="11602"/>
          <a:stretch/>
        </p:blipFill>
        <p:spPr>
          <a:xfrm>
            <a:off x="2514600" y="1676520"/>
            <a:ext cx="4525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447920" y="328680"/>
            <a:ext cx="5695920" cy="6067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447920" y="304920"/>
            <a:ext cx="5848200" cy="6256080"/>
          </a:xfrm>
          <a:prstGeom prst="rect">
            <a:avLst/>
          </a:prstGeom>
          <a:noFill/>
          <a:ln w="165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e 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g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o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f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C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t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.</a:t>
            </a:r>
            <a:br>
              <a:rPr sz="2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hristmas is a time when the family gets to all be together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 You get to give presents to family and friends, and you also get presents too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here is always a great dinner prepared at the Christmas party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It is real fun to talk and play games with all your relatives that you barely get to see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You can watch movies, play games, or you can just talk and hang out with your cousins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You get to bake and decorate cookies for Santa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You also get to put up and decorate a Christmas tree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You can go outside in the snow and build a snow man or even have a snowball fight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You also get to listen to a lot of Christmas songs too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Christmas is my favorite time of year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hl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rcRect l="0" t="13760" r="0" b="0"/>
          <a:stretch/>
        </p:blipFill>
        <p:spPr>
          <a:xfrm>
            <a:off x="3962520" y="1600200"/>
            <a:ext cx="45259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7213400" y="10641348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07213400" y="112671360"/>
            <a:ext cx="5943600" cy="9712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07365680" y="10656576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07365680" y="112823640"/>
            <a:ext cx="5943600" cy="9716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7518320" y="106718040"/>
            <a:ext cx="594360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07518320" y="112975920"/>
            <a:ext cx="5943600" cy="9716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07670600" y="10687068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07670600" y="113128560"/>
            <a:ext cx="5943600" cy="971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07822880" y="10702296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107822880" y="113280840"/>
            <a:ext cx="5943600" cy="971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62120" y="457200"/>
            <a:ext cx="693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What Christmas is all ab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1.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2. Remembering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3. Celebrating Jesus’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4. Santa Cl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5. G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6.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7.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8. Christmas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9. Christmas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10.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11.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12.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By. Ash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7975520" y="107175240"/>
            <a:ext cx="594360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107975520" y="113433120"/>
            <a:ext cx="5943600" cy="971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90720" y="6858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8127800" y="10732788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108127800" y="113585760"/>
            <a:ext cx="5943600" cy="971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1600200" y="5334120"/>
            <a:ext cx="59436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1:16:04Z</dcterms:created>
  <dc:creator>kids</dc:creator>
  <dc:description/>
  <dc:language>en-US</dc:language>
  <cp:lastModifiedBy>Patrick Mooney</cp:lastModifiedBy>
  <dcterms:modified xsi:type="dcterms:W3CDTF">2008-12-15T14:18:21Z</dcterms:modified>
  <cp:revision>26</cp:revision>
  <dc:subject/>
  <dc:title>Austin</dc:title>
</cp:coreProperties>
</file>